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FCE1-8FFD-4B32-AD5E-7F369DA56F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8A8-00D6-47DF-8667-D7C37751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84B-F537-445C-B89B-4209BE76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5D0-0889-44F7-A653-0154E45A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AEA-6EE5-4434-8E35-AA02C056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5B75-FB29-474B-9188-CBBB3094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773F-D0CA-4429-BAA1-DC143598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E2DD-8735-4E96-BEFD-56438182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1818-79FF-43A1-B91F-F271752E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4296-B839-49A0-9352-ECC30919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2FA2-FDCC-4880-B73A-A3D18902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6F6F-7BDB-45C8-A08F-84AD591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25A-26EC-4E07-BAEF-7EF6C1D0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6ED8-3785-4C40-BC61-C2AA0372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7F0-5B72-4731-8253-0272C89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F00C-4EE5-4B0C-B71F-531D6B3A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E918-B50E-4686-B72A-59F0653C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BB83-5FFF-47E2-9DA6-87A92778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C94-F893-411A-8BEE-304A3257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A49-663A-4874-AF36-DC096CCB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0F2-BE3A-4FE2-8C2E-9285F528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A1F-FC8E-4887-8D74-1DBE6171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176-FD77-467A-B316-425614FC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F3F-406A-4E46-A2E9-F6194D3C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352-EB6D-4149-AF7B-F530B0E9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853A-DB3A-499F-B765-0F3B2E6A29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6712-C8C9-42D9-83AD-DCD4C10A06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riting A Good Ess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Good Essay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Beginning, Middle and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learly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Essay Is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ritten speech, used to talk about a given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eginn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3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-Intro and a main overview of the main, and primary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-Thesis Statement (a statement that proves a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-Lead or conversion to start you bod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o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is the main section of the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put into 1 or many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s about the subjects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ragraph is a different sub-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ll info. being 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nding paragraph sums up the entir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Ending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r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 Thesi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touch on every topic in your essay in the last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essays, the Ending paragraph is what people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07:12Z</dcterms:created>
  <dc:creator>Ben Swanson</dc:creator>
  <dc:description/>
  <dc:language>en-US</dc:language>
  <cp:lastModifiedBy>RomaK</cp:lastModifiedBy>
  <dcterms:modified xsi:type="dcterms:W3CDTF">2015-09-02T09:49:12Z</dcterms:modified>
  <cp:revision>4</cp:revision>
  <dc:subject/>
  <dc:title>Writing A Good Essay</dc:title>
</cp:coreProperties>
</file>